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C92D-7503-4E22-B653-4EBE5E45B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04DE-8505-42A3-8F3B-7DACF28B7245}"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DAA0-8770-4A6F-8314-106B11DDBF5F}"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47BA-67CD-4EF1-BD96-6E649F9605E7}"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EE1B-1288-43A3-8C2C-9E8DE8CD6D70}"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9397-CD2A-41AE-8DAB-3E252244B909}"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E807F-0CE2-4AE8-87A3-AC375EC0C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E829B-D207-40BA-8777-CEC3B00A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5F256-2AB6-4BAC-B859-716333F62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F4B10-E5AB-452C-9D45-3B501C1A8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79C31-9AB5-47ED-A1B0-1287FBF52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5EC48-3BAD-4E46-978A-CDDB8F020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804F8-389B-4526-8F13-B3FB176BA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4154E-800F-4ED8-9FED-0FBF1FC95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5A031-A256-4B79-89C5-5C4932A2C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D1F9A-8BAB-42DA-BAD8-E10FC9C1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572D0-D503-46AE-89AD-8D7EBE2B9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B037-A46A-425F-B717-F6EF5AB95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3CF15-48AF-4C7E-855D-C49ADB45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AE0D-4ECB-4DF5-BAD5-59F6EE9B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9D681-453F-4E62-81F9-C7F9A4714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B8C6A-7FC6-46F9-976A-31AE1F7EA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F1503-CD90-42E0-A214-5F4F6BC82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CCB13-BB6B-4B18-BFD1-DF8F2948C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9070C-CD20-4703-ABD6-DCE9079C2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5418D-0518-4C8E-9466-347627CA9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13F05-5D6D-4891-8609-DF0613653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FE9EF-FB94-44F5-9435-39EFE2882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47953-9582-4DCC-9F29-6A8544ED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0B73E-EC47-421B-BCEB-867D86394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04BF9-CDA8-4D33-A3FA-4ADBCABBC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A1B8F-30B0-4FCC-91BC-743DC2C16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2C144-130A-4413-A46A-5B71C866C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3FF7F-6E58-4098-A233-8F947B152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2871B3-4CB7-4151-BF67-DB4FB660B7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A84B5B-8D59-4FC4-B5CB-2ADAB02F0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8D2D14-0BFA-46AC-9ACA-369306331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81112-AD0D-4324-98FE-48A759D3A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74F81-CB91-4F9A-ACE4-6F359C4C6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282D-666E-469D-A41A-0E2E0FE1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35CB1-6085-4B84-B4A0-8AB99FDB2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4550C-7E89-4474-9E0F-B99F1668E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63200-7FFC-448D-A5A8-D6BF5AF1A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1B8D6-68B4-4007-8CA8-BDD99B0D6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9FBBC-6379-422C-8D25-3643D67FA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145E3-9D62-40C9-9BE9-CFEEDB146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CA0382-AFD5-425A-8AF3-905F7922F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88F2B3-D2DF-49B3-87C4-83BC9398E6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DFC66-C701-4798-ADF6-8655D3C05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2CA1C-75B3-4DCE-855B-C396112C82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039E-9AF9-4986-8A1A-892EDCC40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B9ED3-8517-4E8B-8837-D3ED534697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55939-64FF-41DA-9714-8AC9D4D67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CC311-4470-4223-867D-678899D07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1EFC5-F3AD-4056-9316-EB8DC4D77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B15F8-7B97-4BA5-88AB-ECB1B9B2D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E8171-FDBC-48AE-9CC0-5F7B4DA0F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EA4BE-B7A6-4C69-956E-9978FAEB3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4189F-5F58-4BB1-B9A7-C29794015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7DAB0-D41B-45FF-8C21-3F87780E7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F1B186-215B-48BC-B30E-E50CC429D4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60DAD-EB23-43EE-97D1-83FF67A0D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3785B-0751-4D4A-98E9-76C650568E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020A8F-F571-4B83-AA48-64DBA7CC7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7E716-2B4C-4504-A1B2-C8F4C60FA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D36C0-9F8D-45E6-81A0-45EC0AAD7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889C4-C96F-4F48-BB70-E89A3353B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F7C9F-DE93-4417-9634-002C7A3CF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E32D3-B766-420A-B4A0-EF958A8F4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BFCA7-A2C4-422B-BD7D-746DBE5C0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364E3-FB9C-448E-A97C-2F4C8A3D4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D1007-900D-458D-9B95-A56B3F447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63DFD-53DC-4212-8B2D-E92D7336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67C0D-92D3-42D6-89F4-D6A7BB0EA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7B50E9-DB31-46FD-A102-9DC871580F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8466D-DD0B-41C9-B4AE-7223CB66D1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65BBAB-5F1B-47A4-BAC4-0ECC647D2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330B8-2C6E-4C63-BCE1-85A7D88CDE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933018-7C17-4CA5-AADD-E8EE77F54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B5027F-98B9-4A5D-A00D-C1DA174EB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8EC424-B62C-44E9-9AAE-FB328191A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B1975-F57A-40F3-BD50-0AEF4CFF5B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573F7-2264-4973-8E82-8AF30214D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C7CE8-19F8-4149-A9AA-9A15ABE85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50149-F003-43FC-BA25-63DD17F1C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A59B1-C47E-4783-94C1-28031CA7F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91B32-3955-4453-8314-7218DDDD5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D6EC56-C9C0-4809-8C46-525201DEBA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01041A-FB49-444D-8720-C0DE71066C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C73F3-C169-4DB0-A940-ED599DC94B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EACD2-E211-42E6-B7D0-3ECF4314E1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F5945-4DA5-40F2-AE10-4C47C0F465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4124F3-2E78-421F-8C10-EA366C195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C22C7D-7CCD-4299-9FAE-F2D07C8975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0992-11E8-40ED-9E96-88B2EEFA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51E28-688D-4B51-86DA-8FF78D986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1D96E-C9C5-4F7E-8193-63AC11C3DE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D8ED9-F3A7-4B87-8DFC-187F371F8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B841F-0BDF-47F0-94CF-127BC0D87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20C3A1-DA5D-44C2-A589-A91DBE86E9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4FA940-EF35-4E1F-B5E2-094402E393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1B5AB3-1E5A-4FC4-AAA1-1731F75E75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4270-5A86-442F-8EDB-F7F7275E554D}"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DB22-2747-409F-A914-BB1D131F86E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3AD5-1022-47C3-833C-4187AD1AB91B}"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E165-883F-46E0-AA8B-A7F7048989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2EF6-0B0C-4F63-9A42-7BB68CDA0B05}" type="datetime">
              <a:rPr b="0" lang="en-US" sz="1400" spc="-1" strike="noStrike">
                <a:solidFill>
                  <a:srgbClr val="dde9ec"/>
                </a:solidFill>
                <a:latin typeface="Times New Roman"/>
              </a:rPr>
              <a:t>07/31/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27E4-ACD8-4B58-B4E0-D05FEF0C6C5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3B57-5033-4CFD-B407-D4AAC80E8784}"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1A31-52BF-4F29-863C-A8F4A4EEB34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39E9-A534-4190-A779-8D62A31EA051}"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F945-8E69-4E1F-A795-C722802E82E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F69E-D623-4BE1-A797-BF055904F50B}"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7135-815B-4485-B0EA-6670460D15C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68C-FC58-4318-ACC1-ABEE118BAA29}" type="datetime">
              <a:rPr b="0" lang="en-US" sz="1400" spc="-1" strike="noStrike">
                <a:solidFill>
                  <a:srgbClr val="dde9ec"/>
                </a:solidFill>
                <a:latin typeface="Times New Roman"/>
              </a:rPr>
              <a:t>07/31/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6225-D20C-448C-A723-E83FDAAB754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Rechte verbindingslijn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6149-1706-4B5B-AEAA-BDBD94775941}"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AB68-C8AE-4B97-B30D-92D18CA27DE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84400" y="386064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Summary</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pic>
        <p:nvPicPr>
          <p:cNvPr id="361" name="Picture 5" descr="D:\Ilri\various\NBDC_LogoBigSize_PV.jpg"/>
          <p:cNvPicPr/>
          <p:nvPr/>
        </p:nvPicPr>
        <p:blipFill>
          <a:blip r:embed="rId1"/>
          <a:stretch/>
        </p:blipFill>
        <p:spPr>
          <a:xfrm>
            <a:off x="838080" y="260280"/>
            <a:ext cx="7550280" cy="30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864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artner presentations</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ny success stories can be found </a:t>
            </a:r>
            <a:endParaRPr b="0" lang="en-US" sz="2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OARI and ARARI mention mainly in situ water conservation</a:t>
            </a: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RHA mainly water harvesting structures</a:t>
            </a:r>
            <a:endParaRPr b="0" lang="en-US" sz="23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or each project run, there are surveys done, some of them have impact analysis</a:t>
            </a:r>
            <a:endParaRPr b="0" lang="en-US" sz="2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artners have a lot of information and data beyond the 3 pilote sites of N3</a:t>
            </a:r>
            <a:endParaRPr b="0" lang="en-US" sz="23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ome of the water management practices are not mentionned (river diversion, wells, water lifting technolgogies) because it is beyond the mandate of the research centers (but belongs to the ministry of water)</a:t>
            </a:r>
            <a:endParaRPr b="0" lang="en-US" sz="2600" spc="-1" strike="noStrike">
              <a:solidFill>
                <a:srgbClr val="000000"/>
              </a:solidFill>
              <a:latin typeface="Gill Sans MT"/>
            </a:endParaRPr>
          </a:p>
        </p:txBody>
      </p:sp>
      <p:sp>
        <p:nvSpPr>
          <p:cNvPr id="364"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A5A4-233B-4525-93C7-116E6D0A5629}"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65"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finition of “rainwater management strategy”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 1  </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ny interventions that increase the water productivity and water availibility within the watershed. </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 2 :</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ill Sans MT"/>
              </a:rPr>
              <a:t>Efficient and effective management and utilization for a targeted purpose, agriculture, livestock, domestic supply and/or environment, with minimal damage (below economic threshold level) to the land nor to the resource.</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8"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D434-49F7-4856-AAB7-95AC11CE5A3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Classification of practices </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ased on who takes the decision : farm household, the farmer community, the governmen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 2 :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ill Sans MT"/>
              </a:rPr>
              <a:t>Physical</a:t>
            </a:r>
            <a:r>
              <a:rPr b="1" i="1" lang="en-CA" sz="2400" spc="-1" strike="noStrike">
                <a:solidFill>
                  <a:srgbClr val="000000"/>
                </a:solidFill>
                <a:latin typeface="Gill Sans MT"/>
              </a:rPr>
              <a:t>: </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464653"/>
                </a:solidFill>
                <a:latin typeface="Gill Sans MT"/>
              </a:rPr>
              <a:t> </a:t>
            </a:r>
            <a:r>
              <a:rPr b="1" i="1" lang="en-CA" sz="1400" spc="-1" strike="noStrike">
                <a:solidFill>
                  <a:srgbClr val="464653"/>
                </a:solidFill>
                <a:latin typeface="Gill Sans MT"/>
              </a:rPr>
              <a:t>In situ: no water storage</a:t>
            </a:r>
            <a:endParaRPr b="0" lang="en-US" sz="1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Gill Sans MT"/>
              </a:rPr>
              <a:t>crop rotation, mulching, crop residue, terrassing, contour farming, runoff irrigation, dry planting, trench, eyebrow basin, halfmoon, tie ridging, zie pit, percolation pit, drainage system(ditches, cut off drain, BBF, Ridge &amp; Farrow)</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464653"/>
                </a:solidFill>
                <a:latin typeface="Gill Sans MT"/>
              </a:rPr>
              <a:t> </a:t>
            </a:r>
            <a:r>
              <a:rPr b="1" i="1" lang="en-CA" sz="1400" spc="-1" strike="noStrike">
                <a:solidFill>
                  <a:srgbClr val="464653"/>
                </a:solidFill>
                <a:latin typeface="Gill Sans MT"/>
              </a:rPr>
              <a:t>Ex situ : water storage structure</a:t>
            </a:r>
            <a:endParaRPr b="0" lang="en-US" sz="1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Gill Sans MT"/>
              </a:rPr>
              <a:t> </a:t>
            </a:r>
            <a:r>
              <a:rPr b="0" i="1" lang="en-CA" sz="1400" spc="-1" strike="noStrike">
                <a:solidFill>
                  <a:srgbClr val="000000"/>
                </a:solidFill>
                <a:latin typeface="Gill Sans MT"/>
              </a:rPr>
              <a:t>farm pond, diversion, roof water harvesting, microdams, well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ill Sans MT"/>
              </a:rPr>
              <a:t>Biological: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464653"/>
                </a:solidFill>
                <a:latin typeface="Gill Sans MT"/>
              </a:rPr>
              <a:t>crop varieties and types, afforestation, multi-purpose tree planting</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ill Sans MT"/>
              </a:rPr>
              <a:t>Technological: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464653"/>
                </a:solidFill>
                <a:latin typeface="Gill Sans MT"/>
              </a:rPr>
              <a:t>water lifting devices, spring protection, BBM</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2"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724D-7BE1-4FDA-BAD5-AEB33B4B8C1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3"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oday’s program</a:t>
            </a:r>
            <a:endParaRPr b="0" lang="en-US" sz="3200" spc="-1" strike="noStrike">
              <a:solidFill>
                <a:srgbClr val="464653"/>
              </a:solidFill>
              <a:latin typeface="Bookman Old Style"/>
            </a:endParaRPr>
          </a:p>
        </p:txBody>
      </p:sp>
      <p:sp>
        <p:nvSpPr>
          <p:cNvPr id="375"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C335-DC77-40A0-80EB-A50B6664E957}"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6" name="Picture 5" descr=""/>
          <p:cNvPicPr/>
          <p:nvPr/>
        </p:nvPicPr>
        <p:blipFill>
          <a:blip r:embed="rId1"/>
          <a:stretch/>
        </p:blipFill>
        <p:spPr>
          <a:xfrm>
            <a:off x="7380360" y="6157800"/>
            <a:ext cx="1763640" cy="700200"/>
          </a:xfrm>
          <a:prstGeom prst="rect">
            <a:avLst/>
          </a:prstGeom>
          <a:ln w="0">
            <a:noFill/>
          </a:ln>
        </p:spPr>
      </p:pic>
      <p:pic>
        <p:nvPicPr>
          <p:cNvPr id="377" name="Picture 6" descr=""/>
          <p:cNvPicPr/>
          <p:nvPr/>
        </p:nvPicPr>
        <p:blipFill>
          <a:blip r:embed="rId2"/>
          <a:stretch/>
        </p:blipFill>
        <p:spPr>
          <a:xfrm>
            <a:off x="250920" y="1557360"/>
            <a:ext cx="8229600" cy="239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18864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pen “discussion board”</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should the research center be organised to contribute to the different NBDC projec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should the GIS training look lik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are we going to access and share data from the different partn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is the N3 project going to be implemented? </a:t>
            </a:r>
            <a:endParaRPr b="0" lang="en-US" sz="2600" spc="-1" strike="noStrike">
              <a:solidFill>
                <a:srgbClr val="000000"/>
              </a:solidFill>
              <a:latin typeface="Gill Sans MT"/>
            </a:endParaRPr>
          </a:p>
        </p:txBody>
      </p:sp>
      <p:sp>
        <p:nvSpPr>
          <p:cNvPr id="380"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7F9A-285C-420E-A937-CC43D054A44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81"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ringing classification together (to be filled in) </a:t>
            </a:r>
            <a:endParaRPr b="0" lang="en-US" sz="3200" spc="-1" strike="noStrike">
              <a:solidFill>
                <a:srgbClr val="464653"/>
              </a:solidFill>
              <a:latin typeface="Bookman Old Style"/>
            </a:endParaRPr>
          </a:p>
        </p:txBody>
      </p:sp>
      <p:graphicFrame>
        <p:nvGraphicFramePr>
          <p:cNvPr id="383" name=""/>
          <p:cNvGraphicFramePr/>
          <p:nvPr/>
        </p:nvGraphicFramePr>
        <p:xfrm>
          <a:off x="457200" y="1219320"/>
          <a:ext cx="8229600" cy="239220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Gill Sans MT"/>
                        </a:rPr>
                        <a:t>Farm household</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Gill Sans MT"/>
                        </a:rPr>
                        <a:t>Farm community</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Gill Sans MT"/>
                        </a:rPr>
                        <a:t>Government </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hysical (in situ)</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Crop rotatio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Terasse</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hysical (ex situ)</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onds, check dam</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onds, check dam</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Biological </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Improved variety, afforestatio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technological</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Water lifting device,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Spring protectio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
        <p:nvSpPr>
          <p:cNvPr id="384"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DCA2-3063-47F3-874F-CE1304C4B1B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85"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rioritizing </a:t>
            </a:r>
            <a:endParaRPr b="0" lang="en-US" sz="3200" spc="-1" strike="noStrike">
              <a:solidFill>
                <a:srgbClr val="464653"/>
              </a:solidFill>
              <a:latin typeface="Bookman Old Style"/>
            </a:endParaRPr>
          </a:p>
        </p:txBody>
      </p:sp>
      <p:sp>
        <p:nvSpPr>
          <p:cNvPr id="387" name=""/>
          <p:cNvSpPr txBox="1"/>
          <p:nvPr/>
        </p:nvSpPr>
        <p:spPr>
          <a:xfrm>
            <a:off x="32400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top 5 most implemented practices in the areas you work? What 5 potentially have the highest impact on farmer’s livelih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uccesses and contraints to adoption of the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Where do these practices work best? What are the bio-physical characteristic that matter?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o are the actors who need to be involved for adoption an practi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ocio-economic and institutional conditions need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41EA-DC7F-40B8-AFD0-9BDB62B7458C}"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07:35:18Z</dcterms:created>
  <dc:creator>Catherine -user</dc:creator>
  <dc:description/>
  <dc:language>en-US</dc:language>
  <cp:lastModifiedBy>Catherine -user</cp:lastModifiedBy>
  <dcterms:modified xsi:type="dcterms:W3CDTF">2011-03-28T20:17:16Z</dcterms:modified>
  <cp:revision>40</cp:revision>
  <dc:subject/>
  <dc:title>PowerPoint-presentatie</dc:title>
</cp:coreProperties>
</file>